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634-D92F-4131-A7E2-AA735532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837-A620-4758-8CC4-947073F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765-93C9-49BE-931B-D840620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01B-6E92-4F2A-A896-39A8C1D4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BDF-C5C4-4CCB-BDF7-379F141A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267-27ED-4B00-871B-E50995C5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0C36-E75D-49F5-A058-F40A594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BC1-5026-449F-8AED-D1042DA4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0DDD-1E22-45CB-A8B7-43FA745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4CA-9E2B-4637-974F-FD18EDA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B1B7-2974-434D-A441-FA28965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C9B-B625-485C-83F2-BA0AEAC2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8C5D-17A0-4E15-98D4-CA2816F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ECA-F9DD-4693-918C-1C3642E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6952-B989-4E88-B69C-170D0946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D487-7E56-4B5D-B235-13B72F57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02CA-7ADD-47FF-882B-BCBFB2D3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A59-7393-4E8D-BA8C-84EC6E4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EB4-02A0-4BA9-B8A5-E93D0F60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406-425F-4B87-ABB7-ED2478A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CA1-7FF7-4E5A-98CD-0B141EE5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905-6656-46A0-B733-B0DFCEF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017-85C5-4E72-B4A7-38C8A72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E00-74E9-49FA-A073-3F3DB3F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4B83-CF61-49F6-AF54-C9EF41B6057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B79-6915-4263-A895-F29408D1174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pter 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mar Concep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ge 68-69 Gramm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ingula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ns one of a noun and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plural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ns more than one of a no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When a noun ends in the consonant sound (p, k,t) the plural ending is pronounced 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Coats, soc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When a noun ends in the consonant sounds (b,d,g,m,n,r,l,v) or a vowel sound the ending is pronounced (z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mittens, sweaters, ties, umbrell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When a noun ends with a “sibilant” the plural ending is pronounced (ez) which forms another syllable at the end of the no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glasses, wat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ule:  Some nouns have irregular plural for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amples: a man- m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woman- wom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child-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erson- peo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tooth- tee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mouse- mi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7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Rule:  Adjectives and colors come before the noun they describe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Example:  This is a </a:t>
            </a:r>
            <a:r>
              <a:rPr b="0" i="1" lang="en-US" sz="5400" spc="-1" strike="noStrike">
                <a:solidFill>
                  <a:srgbClr val="ffffcc"/>
                </a:solidFill>
                <a:latin typeface="Arial"/>
              </a:rPr>
              <a:t>purple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jacket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7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A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pai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set of two.  A pair is singular and is used with a singular verb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 Here is a pair of sock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7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This/Thes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“demonstratives” that refer to objects close to the speak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 This is my shir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se are my pa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That is the only demonstrative that contracts with “to be.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That’s my ha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1:42:24Z</dcterms:created>
  <dc:creator>Nancy Martinez</dc:creator>
  <dc:description/>
  <dc:language>en-US</dc:language>
  <cp:lastModifiedBy>nytizer</cp:lastModifiedBy>
  <dcterms:modified xsi:type="dcterms:W3CDTF">2011-03-16T15:44:02Z</dcterms:modified>
  <cp:revision>8</cp:revision>
  <dc:subject/>
  <dc:title>Chapter 8</dc:title>
</cp:coreProperties>
</file>